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67CC-4AA9-45AD-A792-1F6F0A58F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51FD-8A80-4803-A748-3E386F5D4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30A-9AF2-42A8-85B8-53579C42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7E1-2D21-4196-9823-26DF97CE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67C-DDA2-482B-832B-458EF4C5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18F-3942-4310-BE3C-BE7EC3AA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17E-B169-4A58-BDED-E5569B1A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5BD-D5DB-452C-8530-B6DC4BAD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CBC-8751-474C-9888-FD568287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280-E31D-4FA1-A858-C044F6C6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B49-04D2-4973-8304-024347C5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6ED-5A96-4B6B-A242-E28BD8CF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5A6-2344-4935-A0AA-676A8640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6F2-B50C-4340-9607-5809CAA1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C9DA-C946-4A8F-81F9-FDEE3F1D3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nder K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nder Ka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o soy muy enérgica y estúpida pero yo estoy perezosa ahora. Yo quiero tener una fiesta pero mi mamá y papá estan en la cas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nder. Yo vivo en Jackson Heights. Yo tengo un hermano. Se llama Lucky. Yo soy flaca y muy dulc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3886200"/>
            <a:ext cx="35053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Lo siento, no puedo venir a tu casa. Nuestra familia caminamos al mar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Se. Yo quiero divertirme! ¿por qué no vienes a mi casa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¿ Aww quiere vivir tu vid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días Masiel! ¿Tú quieres comer helado?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iero comer helado pero dónde puede como helado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9:34Z</dcterms:modified>
  <cp:revision>110</cp:revision>
  <dc:subject/>
  <dc:title>Profile</dc:title>
</cp:coreProperties>
</file>